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614-F1A7-4B26-94F9-315DEE14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394-F6DA-40B6-8DB1-B16F1BF8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C2F-1CD5-4E2C-9EF7-108BEF3C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803-DBDD-4538-96DE-1BF2C7B5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8C2-466A-44CB-9462-9ACE3704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602-F8B9-4071-A77C-50A0674E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636-2FB7-4F25-B560-07D2C1E8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8BF-FD9F-43F8-9CB9-6D8C753A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E5E-ABB7-4C8C-B394-6480D833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661-59FD-40DF-AB76-E14CA1F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B6D-9D5F-42A5-A1E1-8FF51B8D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5AF-C911-4EC3-8691-20A7C1E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469C-B850-4C4A-B0F6-F03DBE8D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ictureperfectgallery.net/wp-content/uploads/2012/11/Autumn-leaves-background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1752480"/>
            <a:ext cx="502920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s Fasionista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3657600"/>
            <a:ext cx="5721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rica Rice y Rachel Greenberg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4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er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71760" y="-1305000"/>
            <a:ext cx="12287520" cy="946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228600" y="-1600200"/>
            <a:ext cx="10896480" cy="9691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05120" y="-160020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3808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286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Veran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3505320"/>
            <a:ext cx="195912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72200" y="914400"/>
            <a:ext cx="1981080" cy="297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190512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La muchacha lleva una vestida luz azul, zapatos negros y una cinta luz azul. Se usa en el ver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22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uchacha lleva unos pantalones cortos rojo con camiseta luz azul y zapatillas negros. Se usa en el ver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4773600">
            <a:off x="6779880" y="4654440"/>
            <a:ext cx="45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O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Autumn leaves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114300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8520" y="304920"/>
            <a:ext cx="23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O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70640" y="2362320"/>
            <a:ext cx="2238480" cy="415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0880" y="838080"/>
            <a:ext cx="2286000" cy="326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24280" y="15238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 lleva los blue jeans con un formal camiseta  blanco y altas cumbres. Se usa en el oto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72428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uchacho lleva un chaleco con formal camiseta blanco, los blue jeans , los tenis y un sombrero negro . Se usa en el otoñ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74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1752480" cy="449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248520" y="304920"/>
            <a:ext cx="2100240" cy="316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42840" y="1584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nv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37160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a lleva chaqueta blanco y negro  , pantalones negros y zapatillas negros.  Se usa en el invi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36576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a lleva un sombrero del invierno y rosado abrigo. Se usa en el invi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-685800"/>
            <a:ext cx="9906120" cy="830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972160" y="-7632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29304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28600" y="990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5680" y="609480"/>
            <a:ext cx="419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Lynch lleva chaqueta negro, camisa luz azul, los blue jeans, y cinturón. Se usa en la primav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87692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uchacho lleva  una sudadera azul, una camisa blanco , y los blue jeans. Se usa en la primav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50:46Z</dcterms:created>
  <dc:creator>rachel greenberg</dc:creator>
  <dc:description/>
  <dc:language>en-US</dc:language>
  <cp:lastModifiedBy>APS</cp:lastModifiedBy>
  <dcterms:modified xsi:type="dcterms:W3CDTF">2013-01-11T14:38:58Z</dcterms:modified>
  <cp:revision>15</cp:revision>
  <dc:subject/>
  <dc:title>Las Fasionistas</dc:title>
</cp:coreProperties>
</file>